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331D9-54F4-4143-A5D5-4F3268B1AB0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40E4C-5ABA-4F68-97DB-4A59A503347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5A1F3-A23F-4D64-A4E2-D65F6CCF355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00F4C-4B41-44E5-A7B9-4B9C2C44F50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38B3D-4B9F-4092-B6C1-2FC60785B7D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CC2E6-F24C-4F05-9475-C9E953C247F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206C5-FD18-4479-A014-26C09E514B6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5CAB0-3A94-464E-A438-5FCCF4F02D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425D-7153-4008-A7ED-40AD42F0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9E895-C01A-4F35-8C2A-F2D164A7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C99A-EFDA-4A90-8AC3-F80CD17B23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1E547-3D92-40CE-9872-B8F0DFA255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DD157-2BF5-41CF-805A-5DD55400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9CB73-2975-432D-8283-9DB1EF61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93378-68C2-4CA9-A8D8-396F8E0D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FED6B-0507-4FC0-A05D-82F3BD0D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981AA-AF22-4A3B-B21E-1C40727A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070DF-F6F3-4C34-8BAA-7E2B6B76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1981-967D-414B-8851-4DAAF083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ABE13-9057-4C81-BD5A-2F6FC5BB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A6413-9FB2-4781-A58C-D596CA8E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7E47F-414E-4013-865F-A495F05F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5C4BC-4FFC-4535-BAD1-A8C06F2B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72EEC-527D-4604-88E5-6A7995FD2E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6C08A-029C-4764-8BB2-BDEEC0F4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5CE7-1CC1-4504-A50E-71996BBE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E5D3-62A8-4C9B-AC48-308AC714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31289-3510-4B8C-A52E-F8F113DA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39D2-F28B-4B07-8583-E0BC507E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AAFDB-C902-4F83-8785-BD29EB85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7F7D-28BB-444B-B048-CDD40C87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  <a:ea typeface="Segoe UI"/>
              </a:rPr>
              <a:t>17/10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72E30-E8C6-4289-B455-CE32E1EE03F5}" type="slidenum">
              <a:rPr b="0" lang="pt-BR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  <a:ea typeface="Segoe UI"/>
              </a:rPr>
              <a:t>17/10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00055-5962-42A1-9FD5-DC5BED9549EF}" type="slidenum">
              <a:rPr b="0" lang="pt-BR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357120" y="1357200"/>
            <a:ext cx="860256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r>
              <a:rPr b="1" lang="pt-BR" sz="3600" spc="-1" strike="noStrike">
                <a:solidFill>
                  <a:srgbClr val="191966"/>
                </a:solidFill>
                <a:latin typeface="Arial Black"/>
              </a:rPr>
              <a:t>Revisão dos Benefícios por Incapacidade de Longa Duraçã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  <a:ea typeface="Arial"/>
              </a:rPr>
              <a:t>Resultado do PRBI, com comparação entre benefícios por Incapacidade cessados x reativados por decisão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500040" y="1643040"/>
            <a:ext cx="8143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2667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Auxílio-doen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Total de benefícios mantidos há mais de dois anos sem perícia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563.7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Perícias realizadas até 16/10/2018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461.9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Perícias realizadas em 2016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22.8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Perícias realizadas em 2017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229.0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Perícias realizadas em 2018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210.0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Conclu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Benefícios convertidos/mantidos/reabilitação profissional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104.264 (2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Cessados com realização de perícia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357.695 (7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Cessados por não atendimento à convocação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54.5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Benefícios cessados (por não atendimento à convocação ou após realização de perícia)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412.2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1280" y="669960"/>
            <a:ext cx="9001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Revisão dos Benefícios por Incapacida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resultados das perícias realizadas até 16/10/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142920" y="1643040"/>
            <a:ext cx="88581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Aposentadoria por inval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Total de benefícios mantidos há mais de dois anos sem perícia (em 06/01/2017 – MP 767/2017)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1.175.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Lei nº 13.457: Expurgo de aposentadoria por invalidez (segurado com idade maior ou igual a 55 anos de idade e 15 anos de benefício, até 31/12/2018)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369.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Total de benefícios mantidos há mais de dois anos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805.7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Perícias realizadas até 16/10/2018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645.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Conclu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 </a:t>
            </a: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Benefícios cessados com realização de perícia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187.590 (2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 </a:t>
            </a: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Benefícios mantidos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457.534  (7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Cessados por não atendimento à convocação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19.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Benefícios cessados (por não atendimento à convocação ou após realização de perícia)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206.7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1280" y="669960"/>
            <a:ext cx="9001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Revisão dos Benefícios por Incapacida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resultados das perícias realizadas até 28/08/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500040" y="1285920"/>
            <a:ext cx="81439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1280" y="669960"/>
            <a:ext cx="9001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Índice de reforma das decisões administrativas pelo Poder Judiciário dos benefícios revisados pelo PR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2411280" y="1482840"/>
            <a:ext cx="4104000" cy="4892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9200" y="6191280"/>
            <a:ext cx="8920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191966"/>
                </a:solidFill>
                <a:latin typeface="Arial"/>
              </a:rPr>
              <a:t>Fonte: Coordenação-Geral de Gestão da Informação e Controle de Benefícios. Departamento de Benefícios Assistencia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191966"/>
                </a:solidFill>
                <a:latin typeface="Arial"/>
              </a:rPr>
              <a:t>e Previdenciários. Secretaria Nacional de Assistência Social – SNAS. Ministério do Desenvolvimento Social – MDS.</a:t>
            </a: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767640" y="5516640"/>
            <a:ext cx="22287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*Base de dados: benefício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cessados até 12/08/2018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00040" y="1285920"/>
            <a:ext cx="81439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1280" y="669960"/>
            <a:ext cx="90014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Índice de reforma das decisões administrativas pelo Poder Judiciário de todos os benefícios indeferidos pelo IN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00040" y="5832360"/>
            <a:ext cx="8564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191966"/>
                </a:solidFill>
                <a:latin typeface="Arial"/>
              </a:rPr>
              <a:t>Fonte: Plano de ação/Coordenação-Geral de Planejamento e Gestão Estratégica/IN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500040" y="2139840"/>
            <a:ext cx="8086680" cy="3619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4"/>
          <a:stretch/>
        </p:blipFill>
        <p:spPr>
          <a:xfrm>
            <a:off x="144360" y="2496960"/>
            <a:ext cx="327240" cy="30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285840" y="1071720"/>
            <a:ext cx="85723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Calibri"/>
              </a:rPr>
              <a:t>Obriga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Dra Karina Braido Santurbano de Teive e Arg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Diretora de Saúde do Trabalhado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DIRSAT – IN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 u="sng">
                <a:solidFill>
                  <a:srgbClr val="003366"/>
                </a:solidFill>
                <a:uFillTx/>
                <a:latin typeface="Calibri"/>
              </a:rPr>
              <a:t>dirsat@inss.gov.b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4:10:45Z</dcterms:created>
  <dc:creator>inss</dc:creator>
  <dc:description/>
  <dc:language>en-US</dc:language>
  <cp:lastModifiedBy>Silvana do Socorro Machado Rodrigues - MPS</cp:lastModifiedBy>
  <cp:lastPrinted>2018-10-17T21:10:33Z</cp:lastPrinted>
  <dcterms:modified xsi:type="dcterms:W3CDTF">2018-10-17T21:40:15Z</dcterms:modified>
  <cp:revision>6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Apresentação na tela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7</vt:r8>
  </property>
</Properties>
</file>